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396-2A66-4F46-A6C8-44543EE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E10-7691-452E-82A7-B205F79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A8F-6DBC-4674-B3A7-F7378F25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B7-23F7-4435-8816-874A0CFE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9AD-B951-4F71-985E-423B26C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D64C-D3DE-402E-8B0D-1B121716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9E14-11A0-4CE5-A143-4059910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915B-F482-4293-B6CF-3F64A10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7F3-D91D-401B-8959-D8AB152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440-91FD-4A13-809C-CECFB70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EEB5-DCC0-4102-B5E3-4046C7F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362-DDE4-4EA9-BC57-466910C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5E67-43D5-44A0-9AAE-C242660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2D7-2858-4BF9-BA25-1AE8334A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83F-5C53-4158-9660-D8299EF1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6B54-8DA7-479D-9CD5-96E7D35F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ED0E-9C01-4ADF-8383-C7D8A4FB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862D-94C9-4888-BDF1-08826D57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D2B8-2BAF-4969-858C-703F7158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459B-D5AE-4C1F-9CFD-6656BF8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2E95-D2B1-4062-AA9B-14A6C13A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016E-2901-45EB-B2D2-3AAAAD85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90F-86F7-470A-9355-73261DE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FCE8-AA60-4493-8FD6-5B5A2BCE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C5EC-F870-47E4-9A84-F341B0B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E17D-C435-443C-A59C-5A7414A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DAE7-A4E1-45CE-A449-5C6F9D9F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C34F-90B0-40A7-B1C4-48E813F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6554-AD74-4F3A-9D0A-EAD1D5E3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2B0F-4A56-4A45-9A55-DFDD3D9E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11A0-C12D-4DF4-880C-2792C67E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195C-A1EC-49F6-A04F-669F002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E1AB-C2C1-4CE0-BFE4-6F3CE32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AE1-9CDA-448B-867E-8675521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85E2-7175-44A8-98A4-CF737FD5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A592-FF92-47B8-B3CF-6B2108BD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60CD-73A5-4C91-992C-4B4DC7D6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3104-EC11-40CC-9850-0F8A0CB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C845-880C-4A2F-9FEA-03C3FF4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D621-7ABC-43C9-AB3A-1C14524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6C23-F8EB-44BA-8E79-E57DF0E9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BDCF-DAF0-4240-8D3B-8FF75483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4A95-D6A7-414A-92FD-B757EE33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B6CA3-08FC-4539-8D59-9801FC8A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A39-312C-46A5-A7A1-11096C5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BC07-53B8-4812-BB4A-9EE706A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AE23-341E-4B57-88ED-7AEC70C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743B-10D8-419C-8BE0-940B311C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1DF7-AEA7-4067-86D5-392427F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A042-DC19-412B-B3E8-3C9E9A50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8B86-A03B-41B6-B07D-E07483E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1E83-5116-4531-8634-B14C63A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0988-202C-4E22-BBBA-08BD4F5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B241-BF5F-4B5D-BA11-61ADF3E4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170C5-257E-4475-8587-AD3FAD11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84C-9C8A-453B-AB83-4F4DB32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FC90-F0FC-4C08-B5DB-AE9A959E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4A8A-CA53-44C3-9322-6A7B68AD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3CD8-347A-4262-A09D-F949D729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67C87-FD34-48C3-AD59-E8E3119A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F224-5D01-404E-94AD-5558E47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BA89B-5348-4EBE-B18D-CE7C7BE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A221-377D-4C3E-B325-2436808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EE106-11AA-4F22-B715-BACC55F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0C4C-1461-49E7-A53E-8A5B450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34D9-62AF-407F-9FB2-415FCFCB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68C-6672-4436-B33A-6F070A0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EA71-309C-4CD1-BBAA-AC0AEDB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A609-BC30-4BFE-8688-CB34DEB5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9CD6-9DB0-41DA-93FE-498EE540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35A5-1DB4-440F-AE30-D601786E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B2D4-8FF1-4234-A3E9-723784F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345C-250D-4FBE-AC18-B55C6149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9D05-7E67-4411-8E57-62D30E24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347C-8ED2-497D-80C9-4B8EB60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C393-610F-4AEC-9B5E-54776C3D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D1151-1139-44CA-AD02-4271A3D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D37-FB33-47C2-9DBD-ABF92F7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82F1-31DE-4A6A-AED3-406E671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C2A5-F808-4E6D-9AD0-D8C5718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02BA7-70F9-401D-AFB0-F7B2CB8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4AA1D-1D8B-4EBF-8F2B-76F6BFF8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DF2B-EE70-45E3-BC3B-D09C5511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AA5-6643-43EC-9B8D-71B18627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B2D-5121-49F5-B59C-B14AFB78FA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730-174A-4DB3-9E0F-9CAF8DCEB0FF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ECAC-04B3-48DF-8B0B-0DB440D6C7D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7F0F-8ADA-4568-87FE-D559933BAC8B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70CD-5AD7-4310-A23B-FC4F1885CF6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21C-6F39-49F9-A677-CEEC5E128E0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39F2-354C-4614-A8C5-CC1D9E5C8DE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450720" y="2077920"/>
            <a:ext cx="8315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03360" y="603360"/>
            <a:ext cx="8040600" cy="1481040"/>
          </a:xfrm>
          <a:prstGeom prst="rect">
            <a:avLst/>
          </a:prstGeom>
          <a:ln w="0">
            <a:noFill/>
          </a:ln>
        </p:spPr>
      </p:pic>
      <p:pic>
        <p:nvPicPr>
          <p:cNvPr id="304" name="Subtitle 2" descr=""/>
          <p:cNvPicPr/>
          <p:nvPr/>
        </p:nvPicPr>
        <p:blipFill>
          <a:blip r:embed="rId2"/>
          <a:stretch/>
        </p:blipFill>
        <p:spPr>
          <a:xfrm>
            <a:off x="1279440" y="1731960"/>
            <a:ext cx="6658200" cy="198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Content Placeholder 2"/>
          <p:cNvGrpSpPr/>
          <p:nvPr/>
        </p:nvGrpSpPr>
        <p:grpSpPr>
          <a:xfrm>
            <a:off x="365040" y="0"/>
            <a:ext cx="8431200" cy="6102360"/>
            <a:chOff x="365040" y="0"/>
            <a:chExt cx="8431200" cy="6102360"/>
          </a:xfrm>
        </p:grpSpPr>
        <p:pic>
          <p:nvPicPr>
            <p:cNvPr id="30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5040" y="0"/>
              <a:ext cx="8431200" cy="61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57200" y="228600"/>
              <a:ext cx="8229600" cy="58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M1 – Sum of all coins and paper currency in circulation, plus certain checkable balances (deposits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M2 – Sum of all other types of wealt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Liquidity – how fast you can convert assets to cas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Fractional reserve banking – system which bankers keep only a fraction of the funds they hold on deposit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Required Reserves – minimum amount of cash required by law (held in reserves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Asset – Item of value that an individual or firm own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Liability – debts, credi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entury Gothic"/>
                </a:rPr>
                <a:t>Excess reserves – any reserves held in excess of legal minimu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09" name="Content Placeholder 2"/>
          <p:cNvGrpSpPr/>
          <p:nvPr/>
        </p:nvGrpSpPr>
        <p:grpSpPr>
          <a:xfrm>
            <a:off x="365040" y="1670040"/>
            <a:ext cx="8589960" cy="4840200"/>
            <a:chOff x="365040" y="1670040"/>
            <a:chExt cx="8589960" cy="4840200"/>
          </a:xfrm>
        </p:grpSpPr>
        <p:pic>
          <p:nvPicPr>
            <p:cNvPr id="31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65040" y="1670040"/>
              <a:ext cx="858996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Medium of exchange is more efficient than bartering (double coincidence of wants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Money today is pure fiat money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9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entury Gothic"/>
                </a:rPr>
                <a:t>Throughout history, all sorts of things have served as money. Commodity money gave way to full-bodied paper money. Usually backed by some sort of commodity, such as gold. This in turn led to partially backed and eventually fiat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13" name="Subtitle 2" descr=""/>
          <p:cNvPicPr/>
          <p:nvPr/>
        </p:nvPicPr>
        <p:blipFill>
          <a:blip r:embed="rId2"/>
          <a:stretch/>
        </p:blipFill>
        <p:spPr>
          <a:xfrm>
            <a:off x="457200" y="2077920"/>
            <a:ext cx="8290080" cy="195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15" name="Content Placeholder 2"/>
          <p:cNvGrpSpPr/>
          <p:nvPr/>
        </p:nvGrpSpPr>
        <p:grpSpPr>
          <a:xfrm>
            <a:off x="371520" y="1712880"/>
            <a:ext cx="8364600" cy="4773600"/>
            <a:chOff x="371520" y="1712880"/>
            <a:chExt cx="8364600" cy="4773600"/>
          </a:xfrm>
        </p:grpSpPr>
        <p:pic>
          <p:nvPicPr>
            <p:cNvPr id="31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712880"/>
              <a:ext cx="836460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Central Bank: a bank for banks, the FED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run by governors appointed by the President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controls money supply by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Open-market op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Fed Fund Rat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Discount Rat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822240" indent="-285840">
                <a:lnSpc>
                  <a:spcPct val="100000"/>
                </a:lnSpc>
                <a:spcBef>
                  <a:spcPts val="649"/>
                </a:spcBef>
                <a:buClr>
                  <a:srgbClr val="ff388c"/>
                </a:buClr>
                <a:buSzPct val="95000"/>
                <a:buFont typeface="Verdana"/>
                <a:buChar char="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Reserve Requirements: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41000" cy="1547640"/>
          </a:xfrm>
          <a:prstGeom prst="rect">
            <a:avLst/>
          </a:prstGeom>
          <a:ln w="0">
            <a:noFill/>
          </a:ln>
        </p:spPr>
      </p:pic>
      <p:grpSp>
        <p:nvGrpSpPr>
          <p:cNvPr id="319" name="Content Placeholder 2"/>
          <p:cNvGrpSpPr/>
          <p:nvPr/>
        </p:nvGrpSpPr>
        <p:grpSpPr>
          <a:xfrm>
            <a:off x="371520" y="1712880"/>
            <a:ext cx="8516880" cy="4773600"/>
            <a:chOff x="371520" y="1712880"/>
            <a:chExt cx="8516880" cy="4773600"/>
          </a:xfrm>
        </p:grpSpPr>
        <p:pic>
          <p:nvPicPr>
            <p:cNvPr id="32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712880"/>
              <a:ext cx="851688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Open-market ops: Fed buys or sells bonds on open-market to increase or decrease money supply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Discount Rate: Is the interest rate the Fed sets on loans that it makes to banks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Fed Funds Rate: Banks lend to one another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entury Gothic"/>
                </a:rPr>
                <a:t>Reserve Requirements: % of total deposits that must be held in reserves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100000"/>
                </a:lnSpc>
                <a:spcBef>
                  <a:spcPts val="751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323" name="Content Placeholder 2"/>
          <p:cNvGrpSpPr/>
          <p:nvPr/>
        </p:nvGrpSpPr>
        <p:grpSpPr>
          <a:xfrm>
            <a:off x="371520" y="1657440"/>
            <a:ext cx="8431200" cy="4829040"/>
            <a:chOff x="371520" y="1657440"/>
            <a:chExt cx="8431200" cy="4829040"/>
          </a:xfrm>
        </p:grpSpPr>
        <p:pic>
          <p:nvPicPr>
            <p:cNvPr id="32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371520" y="1657440"/>
              <a:ext cx="843120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57200" y="18828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Monetary policy to effect investment and interest rates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Higher interest rate lead to lower investment spending and Vice Versa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Higher money supply leads to lower interest rates, these lower interest rates lead to increase in I which has multiplier effects on AD.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entury Gothic"/>
                </a:rPr>
                <a:t>In higher price levels the quantity of money demanded is greater given a fixed supply schedule a higher price level must lead to higher interest rates. Because interest rates discourage investment money supply demanded is lower.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447840" indent="-382680">
                <a:lnSpc>
                  <a:spcPct val="80000"/>
                </a:lnSpc>
                <a:spcBef>
                  <a:spcPts val="649"/>
                </a:spcBef>
                <a:buClr>
                  <a:srgbClr val="ff388c"/>
                </a:buClr>
                <a:buSzPct val="80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6:53Z</dcterms:created>
  <dc:creator>sth_user</dc:creator>
  <dc:description/>
  <dc:language>en-US</dc:language>
  <cp:lastModifiedBy>HP Authorized Customer</cp:lastModifiedBy>
  <dcterms:modified xsi:type="dcterms:W3CDTF">2009-01-27T22:08:21Z</dcterms:modified>
  <cp:revision>11</cp:revision>
  <dc:subject/>
  <dc:title>Unit 7</dc:title>
</cp:coreProperties>
</file>